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25B-B016-4ACE-9FB1-B067FD38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9DE-AA75-418A-9D5B-A7D941A1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04D-B57B-4F02-BB93-C07FD139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16D-377D-4BEA-9E75-501242EC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FBD-962A-4836-B6EF-0C8D3561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1B1-F14F-4E14-BBF3-3A050AEE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AA06-CE04-4177-BD57-B75654F4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A2E6-E9F0-489C-B3DB-D0146832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774-8FF0-46BF-A029-E13E8B69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78C2-148A-40F0-AFF9-0AE31860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FC50-01DA-435D-B354-3AFB407C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1EF2-9722-4F1E-A939-B5932C04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CDD2-D813-4D50-896C-16F4A3DFD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ta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Genetic Disorders to Adap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they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s in th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DNA M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are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produce desired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rotein is not produced, there can be interference with normal biological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DNA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15000" cy="4562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057400" y="990720"/>
            <a:ext cx="51069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s can also be a source of genetic variability in a spe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bene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stic Fibrosis p3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ckle Cel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ph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ular Dystr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somy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19:48Z</dcterms:created>
  <dc:creator>Tera Linn</dc:creator>
  <dc:description/>
  <dc:language>en-US</dc:language>
  <cp:lastModifiedBy>Tera Linn</cp:lastModifiedBy>
  <dcterms:modified xsi:type="dcterms:W3CDTF">2011-12-06T21:08:57Z</dcterms:modified>
  <cp:revision>3</cp:revision>
  <dc:subject/>
  <dc:title>Genetic Disorders</dc:title>
</cp:coreProperties>
</file>